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22DCD-23E3-4BCC-92C6-21E3D8DC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4DBD-4760-4043-A50A-B4E8B232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47514-9BE9-41B6-A996-93A54688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0B9CE-F02B-4F48-8595-981D575D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F208-8B27-44A7-A1E2-2B503AB0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4757-3E0A-4005-94CF-22F0F4D6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4858-18CE-4FED-9CE7-CF49CA3F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2CB0-C543-4C0A-A5F8-806C86C4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AD5E-2A27-4B6C-8854-600C594B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8B8D-80FD-479E-BE44-042539DE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E594-C9E2-4026-97AD-C6B1CCFB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DFFCD-132B-4859-9BAB-FB077C04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FF81-F34C-4BA8-837B-9611B4C6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20A3-07D6-41FA-B795-26476B86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3723-AA0E-41A3-A33E-26D8A3E6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3A02-7321-4CE2-A7B8-A7330E34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0974-30F0-4489-80B2-A27BE474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AB5A-FB04-4B16-A269-7470D0EC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DF17-DB73-4BAD-815B-B6FB4175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3A79-3320-488D-AF6F-D433042F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F3CB0-69A5-4DEB-81DC-A834F221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8C58-C6AF-47DE-A7BD-54458097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BB505-C6CA-4CEF-9AEC-938A0C5F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152CC-CB7B-4E33-A99D-E460145F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D651-65F9-4A5F-8ECB-56CA64E8F1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3EC2-23AB-4ECA-BC66-EDAD60D7D9B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TajMahalbyAmalMongia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uz.wikipedia.org/w/index.php?title=Toj_Mahal&amp;action=edit&amp;redlink=1" TargetMode="External"/><Relationship Id="rId4" Type="http://schemas.openxmlformats.org/officeDocument/2006/relationships/hyperlink" Target="http://uz.wikipedia.org/w/index.php?title=Toj_Mahal&amp;action=edit&amp;redlink=1" TargetMode="External"/><Relationship Id="rId5" Type="http://schemas.openxmlformats.org/officeDocument/2006/relationships/hyperlink" Target="http://uz.wikipedia.org/w/index.php?title=Toj_Mahal&amp;action=edit&amp;redlink=1" TargetMode="External"/><Relationship Id="rId6" Type="http://schemas.openxmlformats.org/officeDocument/2006/relationships/hyperlink" Target="http://uz.wikipedia.org/w/index.php?title=Agra&amp;action=edit&amp;redlink=1" TargetMode="External"/><Relationship Id="rId7" Type="http://schemas.openxmlformats.org/officeDocument/2006/relationships/hyperlink" Target="http://uz.wikipedia.org/wiki/Hindiston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aris_06_Eiffelturm_4828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uz.wikipedia.org/wiki/Eyfel_minorasi" TargetMode="External"/><Relationship Id="rId4" Type="http://schemas.openxmlformats.org/officeDocument/2006/relationships/hyperlink" Target="http://uz.wikipedia.org/wiki/Eyfel_minorasi" TargetMode="External"/><Relationship Id="rId5" Type="http://schemas.openxmlformats.org/officeDocument/2006/relationships/hyperlink" Target="http://uz.wikipedia.org/wiki/Eyfel_minorasi" TargetMode="External"/><Relationship Id="rId6" Type="http://schemas.openxmlformats.org/officeDocument/2006/relationships/hyperlink" Target="http://uz.wikipedia.org/wiki/Parij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El_Castillo,_Chich&#233;n_Itz&#225;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uz.wikipedia.org/w/index.php?title=Chichen_Itsa&amp;action=edit&amp;redlink=1" TargetMode="External"/><Relationship Id="rId4" Type="http://schemas.openxmlformats.org/officeDocument/2006/relationships/hyperlink" Target="http://uz.wikipedia.org/w/index.php?title=Chichen_Itsa&amp;action=edit&amp;redlink=1" TargetMode="External"/><Relationship Id="rId5" Type="http://schemas.openxmlformats.org/officeDocument/2006/relationships/hyperlink" Target="http://uz.wikipedia.org/w/index.php?title=Chichen_Itsa&amp;action=edit&amp;redlink=1" TargetMode="External"/><Relationship Id="rId6" Type="http://schemas.openxmlformats.org/officeDocument/2006/relationships/hyperlink" Target="http://uz.wikipedia.org/w/index.php?title=Yukatan&amp;action=edit&amp;redlink=1" TargetMode="External"/><Relationship Id="rId7" Type="http://schemas.openxmlformats.org/officeDocument/2006/relationships/hyperlink" Target="http://uz.wikipedia.org/wiki/Meksika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CorcovadofotoRJ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z.wikipedia.org/w/index.php?title=Isoning_haykali&amp;action=edit&amp;redlink=1" TargetMode="External"/><Relationship Id="rId4" Type="http://schemas.openxmlformats.org/officeDocument/2006/relationships/hyperlink" Target="http://uz.wikipedia.org/w/index.php?title=Isoning_haykali&amp;action=edit&amp;redlink=1" TargetMode="External"/><Relationship Id="rId5" Type="http://schemas.openxmlformats.org/officeDocument/2006/relationships/hyperlink" Target="http://uz.wikipedia.org/w/index.php?title=Isoning_haykali&amp;action=edit&amp;redlink=1" TargetMode="External"/><Relationship Id="rId6" Type="http://schemas.openxmlformats.org/officeDocument/2006/relationships/hyperlink" Target="http://uz.wikipedia.org/w/index.php?title=Rio_de_Janeyro&amp;action=edit&amp;redlink=1" TargetMode="External"/><Relationship Id="rId7" Type="http://schemas.openxmlformats.org/officeDocument/2006/relationships/hyperlink" Target="http://uz.wikipedia.org/w/index.php?title=Rio_de_Janeyro&amp;action=edit&amp;redlink=1" TargetMode="External"/><Relationship Id="rId8" Type="http://schemas.openxmlformats.org/officeDocument/2006/relationships/hyperlink" Target="http://uz.wikipedia.org/w/index.php?title=Rio_de_Janeyro&amp;action=edit&amp;redlink=1" TargetMode="External"/><Relationship Id="rId9" Type="http://schemas.openxmlformats.org/officeDocument/2006/relationships/hyperlink" Target="http://uz.wikipedia.org/w/index.php?title=Rio_de_Janeyro&amp;action=edit&amp;redlink=1" TargetMode="External"/><Relationship Id="rId10" Type="http://schemas.openxmlformats.org/officeDocument/2006/relationships/hyperlink" Target="http://uz.wikipedia.org/w/index.php?title=Rio_de_Janeyro&amp;action=edit&amp;redlink=1" TargetMode="External"/><Relationship Id="rId11" Type="http://schemas.openxmlformats.org/officeDocument/2006/relationships/hyperlink" Target="http://uz.wikipedia.org/wiki/Braziliya" TargetMode="External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Colosseum_in_Rome,_Italy_-_April_2007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z.wikipedia.org/wiki/Kolizey" TargetMode="External"/><Relationship Id="rId4" Type="http://schemas.openxmlformats.org/officeDocument/2006/relationships/hyperlink" Target="http://uz.wikipedia.org/wiki/Rim" TargetMode="External"/><Relationship Id="rId5" Type="http://schemas.openxmlformats.org/officeDocument/2006/relationships/hyperlink" Target="http://uz.wikipedia.org/wiki/Italiya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GreatWallNearBeijingWinter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uz.wikipedia.org/w/index.php?title=Buyuk_Xitoy_devori&amp;action=edit&amp;redlink=1" TargetMode="External"/><Relationship Id="rId4" Type="http://schemas.openxmlformats.org/officeDocument/2006/relationships/hyperlink" Target="http://uz.wikipedia.org/w/index.php?title=Buyuk_Xitoy_devori&amp;action=edit&amp;redlink=1" TargetMode="External"/><Relationship Id="rId5" Type="http://schemas.openxmlformats.org/officeDocument/2006/relationships/hyperlink" Target="http://uz.wikipedia.org/w/index.php?title=Buyuk_Xitoy_devori&amp;action=edit&amp;redlink=1" TargetMode="External"/><Relationship Id="rId6" Type="http://schemas.openxmlformats.org/officeDocument/2006/relationships/hyperlink" Target="http://uz.wikipedia.org/w/index.php?title=Buyuk_Xitoy_devori&amp;action=edit&amp;redlink=1" TargetMode="External"/><Relationship Id="rId7" Type="http://schemas.openxmlformats.org/officeDocument/2006/relationships/hyperlink" Target="http://uz.wikipedia.org/w/index.php?title=Buyuk_Xitoy_devori&amp;action=edit&amp;redlink=1" TargetMode="External"/><Relationship Id="rId8" Type="http://schemas.openxmlformats.org/officeDocument/2006/relationships/hyperlink" Target="http://uz.wikipedia.org/wiki/Xitoy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eru_Machu_Picchu_Sunrise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uz.wikipedia.org/w/index.php?title=Machu_Pikchu&amp;action=edit&amp;redlink=1" TargetMode="External"/><Relationship Id="rId4" Type="http://schemas.openxmlformats.org/officeDocument/2006/relationships/hyperlink" Target="http://uz.wikipedia.org/w/index.php?title=Machu_Pikchu&amp;action=edit&amp;redlink=1" TargetMode="External"/><Relationship Id="rId5" Type="http://schemas.openxmlformats.org/officeDocument/2006/relationships/hyperlink" Target="http://uz.wikipedia.org/w/index.php?title=Machu_Pikchu&amp;action=edit&amp;redlink=1" TargetMode="External"/><Relationship Id="rId6" Type="http://schemas.openxmlformats.org/officeDocument/2006/relationships/hyperlink" Target="http://uz.wikipedia.org/wiki/Peru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etra_Jordan_BW_2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uz.wikipedia.org/w/index.php?title=Petra&amp;action=edit&amp;redlink=1" TargetMode="External"/><Relationship Id="rId4" Type="http://schemas.openxmlformats.org/officeDocument/2006/relationships/hyperlink" Target="http://uz.wikipedia.org/wiki/Iordaniya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333360"/>
            <a:ext cx="8820000" cy="1366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`ZBEKISTON RESPUBLIKASI OLIY VA O`RTA MAXSU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`LIM VAZIRLI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SHKENT DAVLAT IQTISODIYOT UNIVERSIT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1700280"/>
            <a:ext cx="6084720" cy="24494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afedra: “Falsaf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n: “Estetika, etika, mantiq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221000"/>
            <a:ext cx="8604360" cy="719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VZU: Estetikaning tadqiqot doirasi, axloqning kelib chiqi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4941720"/>
            <a:ext cx="7093080" cy="1916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jardi: IIT – 51 guruh talabasi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madiyorov Rust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shirdi: kt o`qituv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idov Aslid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1484280"/>
            <a:ext cx="8748720" cy="2449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бдулла Авлоний «Туркий гулистон ёхуд ахлоқ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рисоласини шундай бошлайди: «Ахлоқ инсон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яхшилик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чақиргувчи, ёмонликдан қайтаргув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ир илмдур. Яхши хулқларнинг яхшилигини, ём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хулқларнинг ёмонлиги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далил ва мисоллар ила баё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иладурғон китобни ахлоқ дейилур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620640"/>
            <a:ext cx="820908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Фитратнинг фикрича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TajMahalbyAmalMongi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4076640"/>
            <a:ext cx="4680000" cy="2781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1280" y="4365720"/>
            <a:ext cx="309708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Toj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Mah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Agr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Hindi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1413000"/>
            <a:ext cx="4752720" cy="5111640"/>
          </a:xfrm>
          <a:custGeom>
            <a:avLst/>
            <a:gdLst>
              <a:gd name="textAreaLeft" fmla="*/ 231840 w 4752720"/>
              <a:gd name="textAreaRight" fmla="*/ 4520880 w 4752720"/>
              <a:gd name="textAreaTop" fmla="*/ 231840 h 5111640"/>
              <a:gd name="textAreaBottom" fmla="*/ 4879800 h 5111640"/>
            </a:gdLst>
            <a:ahLst/>
            <a:rect l="textAreaLeft" t="textAreaTop" r="textAreaRight" b="textAreaBottom"/>
            <a:pathLst>
              <a:path w="21600" h="23231">
                <a:moveTo>
                  <a:pt x="3600" y="0"/>
                </a:moveTo>
                <a:arcTo wR="3600" hR="3600" stAng="16200000" swAng="-5400000"/>
                <a:lnTo>
                  <a:pt x="0" y="19631"/>
                </a:lnTo>
                <a:arcTo wR="3600" hR="3600" stAng="10800000" swAng="-5400000"/>
                <a:lnTo>
                  <a:pt x="18000" y="232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«Икки нарса ҳақида қан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ўп, қанча узоқ ўйлага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сари қалбинг тобора ян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обора кучайиб борув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айрат 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ихлос билан тўли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ошаверади, булар – бош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устидаг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юлдузли осм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ва менинг ботинимд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 қонун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49360"/>
            <a:ext cx="8280360" cy="71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нт айтадики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Paris 06 Eiffelturm 482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700280"/>
            <a:ext cx="3456000" cy="3673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64000" y="5589720"/>
            <a:ext cx="3456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Eyfel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minor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arij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Frans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1484280"/>
            <a:ext cx="8748720" cy="2521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у дунё кураш майдонидир. Бу майдонн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уроли соғлом жисму тан, ақл ва ахлоқдир. Ле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на шу қурол-аслаҳамиз синиб, занг босиб, чири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етган сари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ундай қуроллар билан бу дунёда бизга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ода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а на роҳат бор...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620640"/>
            <a:ext cx="820908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егель таърифлай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Angkor wat temple.jpg"/>
          <p:cNvPicPr/>
          <p:nvPr/>
        </p:nvPicPr>
        <p:blipFill>
          <a:blip r:embed="rId1"/>
          <a:stretch/>
        </p:blipFill>
        <p:spPr>
          <a:xfrm>
            <a:off x="468360" y="4221000"/>
            <a:ext cx="4174920" cy="2303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932360" y="4365720"/>
            <a:ext cx="324000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Angk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Angko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Kamb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567640" cy="3166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tikaning falsafiy  moxiy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xloq xaqida asosiy tushuncha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llomalarning bu fanga qo`shgan xissa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616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628640"/>
            <a:ext cx="8820000" cy="23767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Фалсафани азим дарахтга, чинорга қиё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қилсак, унинг илдизи табиат ҳақидаги таълимотл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пояси – мантиқ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 меваси эса – этикадир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рҳақиқа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илим – ақл булоғи, ахлоқ эса - ҳаё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ироғидир, ёки билим – хазина, ахлоқ э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азилатди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476280"/>
            <a:ext cx="8101080" cy="1008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Қадимги антик давр донишмандларининг фик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El Castillo, Chichén Itzá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4149720"/>
            <a:ext cx="4608360" cy="270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5280" y="4221000"/>
            <a:ext cx="2664000" cy="23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Chichen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t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Yukatan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Meks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268280"/>
            <a:ext cx="8820000" cy="2305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инсон ҳақида ёқимли таассурот уйғотадиг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лекин жамоа, жамият  ҳаётида бурилиш ясайди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даражад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муҳим аҳамиятга эга бўлмайдиган, милл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урф-одатларга асосланг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чиройли хатти-ҳаракат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ўз ичига олад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549360"/>
            <a:ext cx="734364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об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CorcovadofotoRJ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716280"/>
            <a:ext cx="3166920" cy="3141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211640" y="3716280"/>
            <a:ext cx="352908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Isoning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ayk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Rio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de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Janeyr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Brazil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1484280"/>
            <a:ext cx="882000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оила, жамоа, маҳалла-кўй миқёсида аҳамиятли бўлга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ммо жамият ва инсоният ҳаётига сезиларли таъс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ўрсатмайдиган ёқимли инсоний хатти-ҳаракатларн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мажму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620640"/>
            <a:ext cx="792000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Хулқ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Colosseum in Rome, Italy - April 20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076640"/>
            <a:ext cx="4465440" cy="2781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4365720"/>
            <a:ext cx="316872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Koliz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Ri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tal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484280"/>
            <a:ext cx="8748720" cy="280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...барча одамлар учун бирдек тааллуқ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ҳисобланган, шахс ҳаётидаги ҳамма соҳаларда ўзига 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ўзгаларга нисбатан қўйиладиган маънавий-ижтимо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талабла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ҳамда эҳтиёжларнинг муносабатлар шаклида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кўринишида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иборат бўлган, инсонга берилг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ихтиёр эканлигининг хатти-ҳаракатлар жараёнида ич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ирода кучи томонидан оқилона чекланишини тақозо этувч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маънавий ҳодис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476280"/>
            <a:ext cx="8208720" cy="863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</a:t>
            </a:r>
            <a:r>
              <a:rPr b="0" lang="uz-Cyrl-UZ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GreatWallNearBeijingWin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437000"/>
            <a:ext cx="4680000" cy="2421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35640" y="4581360"/>
            <a:ext cx="288144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Buyuk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Xitoy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dev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Xit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1484280"/>
            <a:ext cx="867564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«Билгилким, ҳамма касбларга бирдай тааллуқ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исқача қоида-адаблар мавжуд, шунингдек, ҳар б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сб учун алоҳида одоб ҳам бор. Агар бар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сблар учу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зарурий одоблар хулосани неч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деб сўрасалар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ўртт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(саккизта) деб айтгил: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620640"/>
            <a:ext cx="853272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усайн Воиз Кошифий ёзади: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Peru Machu Picchu Sunris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932360" y="4292640"/>
            <a:ext cx="30956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Machu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Pik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87280" y="549360"/>
            <a:ext cx="7956720" cy="934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ўз касбини ҳаромдан, шубҳали мол-маблағд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пок сақла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549360"/>
            <a:ext cx="720720" cy="93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1700280"/>
            <a:ext cx="7956720" cy="1441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ризқ-рўзи зарурати учунгина керакли кас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илан шуғуллансин, касбни мол-дунё тўплаш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сарфлама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3284640"/>
            <a:ext cx="7956720" cy="1008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бни обрў олиш, яхши ном чиқаришнинг сабаб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б бил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4508640"/>
            <a:ext cx="7956720" cy="136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и ҳаром одамлар (амалдорлар, порахўрла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қароқчилар, ўғрилар, қиморбозлар, казз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ўкондорлар)билан муомала қилмасин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916280"/>
            <a:ext cx="720720" cy="1152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3357720"/>
            <a:ext cx="720720" cy="93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4581360"/>
            <a:ext cx="720720" cy="1224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84280"/>
            <a:ext cx="874872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одоблилик – хушхулқлиликка, хушхулқлилик – юкс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ликка айланган каби, ахлоқий тарбия йўл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ўйилмаган жойда муайян шахс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вақти кели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одобсизликдан – бадхулқлиликка, бадхулқлиликдан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сизликка ўтиши мумк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549360"/>
            <a:ext cx="8209080" cy="792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 тарбия натижасида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Petra Jordan BW 2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4076640"/>
            <a:ext cx="4390920" cy="2781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71640" y="4437000"/>
            <a:ext cx="302400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Pe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Iordan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17:02:26Z</dcterms:created>
  <dc:creator>Talaba</dc:creator>
  <dc:description/>
  <dc:language>en-US</dc:language>
  <cp:lastModifiedBy>USER_CHIP</cp:lastModifiedBy>
  <dcterms:modified xsi:type="dcterms:W3CDTF">2011-12-07T04:03:45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